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BE10-5B5E-4454-9A8B-A6A7B0445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D88D-9003-4B3E-95E2-24230FF55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F860-DCB2-49B5-870F-EC36DD9D7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B715-DCC7-4B3F-9B9A-8876137B2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C91F-20FA-49C6-A5B0-248AF8E05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AB82-E784-4153-A169-29FC836C1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F90D-0AC0-49F5-B7DA-70FCF69F0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A027-EB6F-49A5-A1D3-B6A32272C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BDB4-D480-489B-919C-7E3949942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FD40-2891-41E4-82CC-C26FAF012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3246-04FB-42C7-AF09-9B400C080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ED3E-E7A7-4437-A78C-FC6F6EA47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6422-74F0-46CB-8B8B-9C73AE8DC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EFCA-F846-4238-9F29-DCD75B33A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9667-7EA6-464C-BA0F-01990C90A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E3AE-B9A9-4B4C-B6CB-579579E5F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DF9C-336A-4035-9475-25919C5FB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FFC-2802-4AEC-9AEA-C2903BA9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C4CB-408C-4D23-A872-A4B2DD10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EAC-C894-40E0-AF36-6B0EA0A0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863-D0E1-44CF-AD0B-EAFA4A49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FD7-B0B6-4884-8D03-EB79226C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F88-7C85-4DDA-946F-9D000BBE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524-AAB3-4CB7-8796-F53E0026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C3A-7FF9-479B-8C98-C298EC2F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412-1209-4C7A-B215-8DA0B506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C701-26EE-4344-B2DD-29C53732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EE7B-E3BB-4724-98B1-229269D8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13FE-4EBD-48B0-B8B2-CAFF34FD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b2b2b2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0F9D-D474-4E54-979D-1C523A2EC268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4077-3293-43B2-8AED-47001A8E3C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E897-1D03-462F-989C-380932AB35A7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Year 12 What you should know already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" name="Picture 20" descr="Glucose"/>
          <p:cNvPicPr/>
          <p:nvPr/>
        </p:nvPicPr>
        <p:blipFill>
          <a:blip r:embed="rId1"/>
          <a:stretch/>
        </p:blipFill>
        <p:spPr>
          <a:xfrm>
            <a:off x="6156360" y="4149720"/>
            <a:ext cx="26272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DBCF-62F8-433C-BE84-7BC831A4A39F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248520" y="990720"/>
            <a:ext cx="2514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Arc 3"/>
          <p:cNvSpPr/>
          <p:nvPr/>
        </p:nvSpPr>
        <p:spPr>
          <a:xfrm flipV="1" rot="2700000">
            <a:off x="6781680" y="1447200"/>
            <a:ext cx="533520" cy="533160"/>
          </a:xfrm>
          <a:custGeom>
            <a:avLst/>
            <a:gdLst>
              <a:gd name="textAreaLeft" fmla="*/ 0 w 533520"/>
              <a:gd name="textAreaRight" fmla="*/ 533880 w 533520"/>
              <a:gd name="textAreaTop" fmla="*/ -360 h 533160"/>
              <a:gd name="textAreaBottom" fmla="*/ 533160 h 5331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Some simple compounds…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228600" y="990720"/>
            <a:ext cx="2514600" cy="2178720"/>
            <a:chOff x="228600" y="990720"/>
            <a:chExt cx="2514600" cy="2178720"/>
          </a:xfrm>
        </p:grpSpPr>
        <p:sp>
          <p:nvSpPr>
            <p:cNvPr id="111" name="Text Box 6"/>
            <p:cNvSpPr/>
            <p:nvPr/>
          </p:nvSpPr>
          <p:spPr>
            <a:xfrm>
              <a:off x="228600" y="990720"/>
              <a:ext cx="2514600" cy="217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Methane, CH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112" name="Object 7"/>
            <p:cNvGraphicFramePr/>
            <p:nvPr/>
          </p:nvGraphicFramePr>
          <p:xfrm>
            <a:off x="533520" y="990720"/>
            <a:ext cx="1752480" cy="173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990720"/>
                      <a:ext cx="175248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4" name="Rectangle 8"/>
          <p:cNvSpPr/>
          <p:nvPr/>
        </p:nvSpPr>
        <p:spPr>
          <a:xfrm>
            <a:off x="3200400" y="990720"/>
            <a:ext cx="2514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3733920" y="1905120"/>
            <a:ext cx="304560" cy="304560"/>
          </a:xfrm>
          <a:prstGeom prst="ellipse">
            <a:avLst/>
          </a:prstGeom>
          <a:gradFill rotWithShape="0">
            <a:gsLst>
              <a:gs pos="0">
                <a:srgbClr val="9191e4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Line 10"/>
          <p:cNvSpPr/>
          <p:nvPr/>
        </p:nvSpPr>
        <p:spPr>
          <a:xfrm flipH="1">
            <a:off x="3962520" y="1600200"/>
            <a:ext cx="30456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800600" y="1905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191e4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4572000" y="1600200"/>
            <a:ext cx="30492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3429000" y="26668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ater,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Arc 14"/>
          <p:cNvSpPr/>
          <p:nvPr/>
        </p:nvSpPr>
        <p:spPr>
          <a:xfrm rot="18900000">
            <a:off x="6781320" y="1371600"/>
            <a:ext cx="533520" cy="53352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Arc 15"/>
          <p:cNvSpPr/>
          <p:nvPr/>
        </p:nvSpPr>
        <p:spPr>
          <a:xfrm rot="18900000">
            <a:off x="7772400" y="1447920"/>
            <a:ext cx="533520" cy="53316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Arc 16"/>
          <p:cNvSpPr/>
          <p:nvPr/>
        </p:nvSpPr>
        <p:spPr>
          <a:xfrm flipV="1" rot="2700000">
            <a:off x="7772040" y="1523880"/>
            <a:ext cx="533520" cy="533520"/>
          </a:xfrm>
          <a:custGeom>
            <a:avLst/>
            <a:gdLst>
              <a:gd name="textAreaLeft" fmla="*/ 0 w 533520"/>
              <a:gd name="textAreaRight" fmla="*/ 533880 w 53352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7238880" y="1371600"/>
            <a:ext cx="609840" cy="609480"/>
          </a:xfrm>
          <a:prstGeom prst="ellipse">
            <a:avLst/>
          </a:prstGeom>
          <a:gradFill rotWithShape="0">
            <a:gsLst>
              <a:gs pos="0">
                <a:srgbClr val="ffc2c2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6324480" y="2209680"/>
            <a:ext cx="2210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bon dioxide,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228600" y="3352680"/>
            <a:ext cx="25146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457200" y="5029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thyne,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7" name="Object 21"/>
          <p:cNvGraphicFramePr/>
          <p:nvPr/>
        </p:nvGraphicFramePr>
        <p:xfrm>
          <a:off x="304920" y="4038480"/>
          <a:ext cx="236196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038480"/>
                    <a:ext cx="23619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Group 22"/>
          <p:cNvGrpSpPr/>
          <p:nvPr/>
        </p:nvGrpSpPr>
        <p:grpSpPr>
          <a:xfrm>
            <a:off x="3200400" y="3352680"/>
            <a:ext cx="2514600" cy="3048120"/>
            <a:chOff x="3200400" y="3352680"/>
            <a:chExt cx="2514600" cy="3048120"/>
          </a:xfrm>
        </p:grpSpPr>
        <p:sp>
          <p:nvSpPr>
            <p:cNvPr id="130" name="Rectangle 23"/>
            <p:cNvSpPr/>
            <p:nvPr/>
          </p:nvSpPr>
          <p:spPr>
            <a:xfrm>
              <a:off x="3200400" y="3352680"/>
              <a:ext cx="2514600" cy="30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131" name="Object 24"/>
            <p:cNvGraphicFramePr/>
            <p:nvPr/>
          </p:nvGraphicFramePr>
          <p:xfrm>
            <a:off x="3504960" y="3429000"/>
            <a:ext cx="1811520" cy="198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2" name="Object 2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04960" y="3429000"/>
                      <a:ext cx="181152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25"/>
            <p:cNvSpPr/>
            <p:nvPr/>
          </p:nvSpPr>
          <p:spPr>
            <a:xfrm>
              <a:off x="3429000" y="5334120"/>
              <a:ext cx="22096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ulphuric acid, H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4" name="Oval 26"/>
          <p:cNvSpPr/>
          <p:nvPr/>
        </p:nvSpPr>
        <p:spPr>
          <a:xfrm>
            <a:off x="8153280" y="1447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c2e1c2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6324480" y="1447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c2e1c2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Oval 28"/>
          <p:cNvSpPr/>
          <p:nvPr/>
        </p:nvSpPr>
        <p:spPr>
          <a:xfrm>
            <a:off x="4114800" y="1295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c2e1c2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7" name="Group 29"/>
          <p:cNvGrpSpPr/>
          <p:nvPr/>
        </p:nvGrpSpPr>
        <p:grpSpPr>
          <a:xfrm>
            <a:off x="6172200" y="3276720"/>
            <a:ext cx="2743200" cy="3393000"/>
            <a:chOff x="6172200" y="3276720"/>
            <a:chExt cx="2743200" cy="3393000"/>
          </a:xfrm>
        </p:grpSpPr>
        <p:grpSp>
          <p:nvGrpSpPr>
            <p:cNvPr id="138" name="Group 30"/>
            <p:cNvGrpSpPr/>
            <p:nvPr/>
          </p:nvGrpSpPr>
          <p:grpSpPr>
            <a:xfrm>
              <a:off x="6172200" y="3962520"/>
              <a:ext cx="609480" cy="2666880"/>
              <a:chOff x="6172200" y="3962520"/>
              <a:chExt cx="609480" cy="2666880"/>
            </a:xfrm>
          </p:grpSpPr>
          <p:sp>
            <p:nvSpPr>
              <p:cNvPr id="139" name="Oval 31"/>
              <p:cNvSpPr/>
              <p:nvPr/>
            </p:nvSpPr>
            <p:spPr>
              <a:xfrm>
                <a:off x="6400440" y="3962520"/>
                <a:ext cx="304560" cy="304560"/>
              </a:xfrm>
              <a:prstGeom prst="ellipse">
                <a:avLst/>
              </a:prstGeom>
              <a:gradFill rotWithShape="0">
                <a:gsLst>
                  <a:gs pos="0">
                    <a:srgbClr val="9191e4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0" name="Oval 32"/>
              <p:cNvSpPr/>
              <p:nvPr/>
            </p:nvSpPr>
            <p:spPr>
              <a:xfrm>
                <a:off x="6248160" y="4495680"/>
                <a:ext cx="533160" cy="533520"/>
              </a:xfrm>
              <a:prstGeom prst="ellipse">
                <a:avLst/>
              </a:prstGeom>
              <a:gradFill rotWithShape="0">
                <a:gsLst>
                  <a:gs pos="0">
                    <a:srgbClr val="c2e1c2"/>
                  </a:gs>
                  <a:gs pos="100000">
                    <a:srgbClr val="008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1" name="Oval 33"/>
              <p:cNvSpPr/>
              <p:nvPr/>
            </p:nvSpPr>
            <p:spPr>
              <a:xfrm>
                <a:off x="6172200" y="52578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c2c2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2" name="Oval 34"/>
              <p:cNvSpPr/>
              <p:nvPr/>
            </p:nvSpPr>
            <p:spPr>
              <a:xfrm>
                <a:off x="6172200" y="60199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e7ce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43" name="Text Box 35"/>
            <p:cNvSpPr/>
            <p:nvPr/>
          </p:nvSpPr>
          <p:spPr>
            <a:xfrm>
              <a:off x="6705360" y="327672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omic Sans MS"/>
                </a:rPr>
                <a:t>Key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" name="Text Box 36"/>
            <p:cNvSpPr/>
            <p:nvPr/>
          </p:nvSpPr>
          <p:spPr>
            <a:xfrm>
              <a:off x="7010280" y="3809880"/>
              <a:ext cx="1905120" cy="28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ydrogen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xygen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rbon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ulphu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ED75-40F5-4BFB-8B9F-3309FF64E014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Simple formulae to lear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28600" y="1600200"/>
            <a:ext cx="1143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N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676520" y="1600200"/>
            <a:ext cx="2819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mmoni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ulphur dioxi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952880" y="1600200"/>
            <a:ext cx="1828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N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Fe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553080" y="1600200"/>
            <a:ext cx="2590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chlor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chlor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agnesium 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chloric aci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ulphuric aci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itric aci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hydr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lcium carbona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uminium 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Iron 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Formula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71280" y="1412640"/>
            <a:ext cx="68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Comic Sans MS"/>
              </a:rPr>
              <a:t>What do the numbers mean in: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SO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Mg(OH)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3 NH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Comic Sans MS"/>
              </a:rPr>
              <a:t>How many atoms of each type are there in: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PO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(CO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116B-80F7-44B8-905B-40DBF1DE8C47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Balancing Reactions 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1187280" y="1413000"/>
            <a:ext cx="6912000" cy="5021280"/>
            <a:chOff x="1187280" y="1413000"/>
            <a:chExt cx="6912000" cy="5021280"/>
          </a:xfrm>
        </p:grpSpPr>
        <p:grpSp>
          <p:nvGrpSpPr>
            <p:cNvPr id="157" name="Group 4"/>
            <p:cNvGrpSpPr/>
            <p:nvPr/>
          </p:nvGrpSpPr>
          <p:grpSpPr>
            <a:xfrm>
              <a:off x="1187280" y="1413000"/>
              <a:ext cx="6912000" cy="5021280"/>
              <a:chOff x="1187280" y="1413000"/>
              <a:chExt cx="6912000" cy="5021280"/>
            </a:xfrm>
          </p:grpSpPr>
          <p:sp>
            <p:nvSpPr>
              <p:cNvPr id="158" name="Text Box 5"/>
              <p:cNvSpPr/>
              <p:nvPr/>
            </p:nvSpPr>
            <p:spPr>
              <a:xfrm>
                <a:off x="1187280" y="1413000"/>
                <a:ext cx="2989440" cy="502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Mg    +    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Zn    +    HCl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Fe    +    Cl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NaOH    +    HCl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CH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4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    +    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Ca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NaOH    +    H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S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C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3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OH    +    O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            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" name="Text Box 6"/>
              <p:cNvSpPr/>
              <p:nvPr/>
            </p:nvSpPr>
            <p:spPr>
              <a:xfrm>
                <a:off x="5219640" y="1413000"/>
                <a:ext cx="2879640" cy="470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Mg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ZnCl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FeCl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NaCl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C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Ca(OH)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Na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S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4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CO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" name="Line 7"/>
              <p:cNvSpPr/>
              <p:nvPr/>
            </p:nvSpPr>
            <p:spPr>
              <a:xfrm>
                <a:off x="4427640" y="1628640"/>
                <a:ext cx="431640" cy="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61" name="Line 8"/>
            <p:cNvSpPr/>
            <p:nvPr/>
          </p:nvSpPr>
          <p:spPr>
            <a:xfrm>
              <a:off x="4427640" y="220500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4427640" y="2781360"/>
              <a:ext cx="43164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>
              <a:off x="4427640" y="328464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4427640" y="3860640"/>
              <a:ext cx="43164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>
              <a:off x="4427640" y="43657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6" name="Line 13"/>
            <p:cNvSpPr/>
            <p:nvPr/>
          </p:nvSpPr>
          <p:spPr>
            <a:xfrm>
              <a:off x="4427640" y="4941720"/>
              <a:ext cx="43164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7" name="Line 14"/>
            <p:cNvSpPr/>
            <p:nvPr/>
          </p:nvSpPr>
          <p:spPr>
            <a:xfrm>
              <a:off x="4427640" y="544500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68" name="Text Box 15"/>
          <p:cNvSpPr/>
          <p:nvPr/>
        </p:nvSpPr>
        <p:spPr>
          <a:xfrm>
            <a:off x="1042920" y="1413000"/>
            <a:ext cx="2952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            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5003640" y="1413000"/>
            <a:ext cx="2448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7471-A114-467B-AE6D-CEFA8616A66B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68360" y="404640"/>
            <a:ext cx="84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4360" y="54936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could you produce C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in the lab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611280" y="1268280"/>
            <a:ext cx="79930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Add calcium carbonate to some acid eg HCl or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would you test for the C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ga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By bubbling it through limewater ( a solution of Ca(OH)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) and observing the solution go milk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2F91-9C44-48B1-ADBF-6E2BD3FB6B55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468360" y="404640"/>
            <a:ext cx="84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84360" y="54936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could you produce H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in the lab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11280" y="1268280"/>
            <a:ext cx="7993080" cy="31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Add Mg to some acid eg HCl or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would you test for the ga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By igniting the gas using the pop tes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1AA2-82B4-4B92-831D-334CDD50FE76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68360" y="404640"/>
            <a:ext cx="84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4360" y="54936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could you produce 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in the lab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11280" y="1268280"/>
            <a:ext cx="799308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manganese dioxide and hydrogen peroxide in a test tube produces oxygen g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would you test for the 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ga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By placing a glowing splint into the tube and seeing if it would relight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FBEF-16B4-4D99-99E1-30EF8574F1C6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lements and symbols that you should know: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838080" y="19810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ff"/>
                </a:solidFill>
                <a:latin typeface="Comic Sans MS"/>
              </a:rPr>
              <a:t>Part 1 – The obvious on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492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25780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74320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L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B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92468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M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S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B9B0-B986-4697-AA33-B01217B0CA37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838080" y="228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ff"/>
                </a:solidFill>
                <a:latin typeface="Comic Sans MS"/>
              </a:rPr>
              <a:t>Some more obvious on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04920" y="1143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914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ulphu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rg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257800" y="914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8) Calc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9) Zin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838080" y="3276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ff"/>
                </a:solidFill>
                <a:latin typeface="Comic Sans MS"/>
              </a:rPr>
              <a:t>The less obvious on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04920" y="388620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opp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v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334120" y="38862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6) Ti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7) Gol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8) Mercu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9) Lea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743200" y="91440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7467480" y="914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Z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2743200" y="3886200"/>
            <a:ext cx="68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N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Cu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7467480" y="3886200"/>
            <a:ext cx="68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S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u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H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P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9168-9C06-4345-AA7F-1E157A17CBA0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99ccff"/>
                </a:solidFill>
                <a:latin typeface="Comic Sans MS"/>
              </a:rPr>
              <a:t>What is an ion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An anion is an atom that has gained electron(s) to form a (-) ion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.g Cl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Chloride)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2-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Sulfide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or a cation is an atom that has lost electron(s) to form a (+) 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.g  Na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+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Sodium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Fe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2+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iron (ll) ion) (aka Ferric ion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Fe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3+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iron(lll) ion ) (Ferrou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F76C-B05A-45CC-B97A-C96A33AAE74D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he formula for Ions that you should know: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0" y="184464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ccccff"/>
                </a:solidFill>
                <a:latin typeface="Comic Sans MS"/>
              </a:rPr>
              <a:t>Write the ion or name beside the follow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24000" y="2567160"/>
            <a:ext cx="2743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Carbonat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Magnes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Oxid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Sulphat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Sod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Iron (ll)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716360" y="2567160"/>
            <a:ext cx="27432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OH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S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Cl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i="1" lang="en-NZ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 </a:t>
            </a:r>
            <a:r>
              <a:rPr b="0" i="1" lang="en-GB" sz="2400" spc="-1" strike="noStrike" baseline="30000">
                <a:solidFill>
                  <a:srgbClr val="ffffff"/>
                </a:solidFill>
                <a:latin typeface="Comic Sans MS"/>
              </a:rPr>
              <a:t>3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Pb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Ca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Fe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3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987640" y="2565360"/>
            <a:ext cx="129708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H </a:t>
            </a:r>
            <a:r>
              <a:rPr b="1" i="1" lang="en-GB" sz="24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i="1" lang="en-NZ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Li </a:t>
            </a:r>
            <a:r>
              <a:rPr b="1" i="1" lang="en-GB" sz="24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Mg 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0 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SO</a:t>
            </a:r>
            <a:r>
              <a:rPr b="1" i="1" lang="en-NZ" sz="24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Na </a:t>
            </a:r>
            <a:r>
              <a:rPr b="1" i="1" lang="en-GB" sz="24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Fe 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500880" y="2565360"/>
            <a:ext cx="2643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Hydroxide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Sulphide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Chloride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Nitrate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lumin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Lead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Calc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Iron (lll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02F1-44B1-4C07-983E-184AA9BF7CB2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260280"/>
            <a:ext cx="88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Comic Sans MS"/>
              </a:rPr>
              <a:t>Atoms and elem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A substance made of one type of atom is called an ele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ccccff"/>
                </a:solidFill>
                <a:latin typeface="Comic Sans MS"/>
              </a:rPr>
              <a:t>e.g. a piece of Aluminium (symbol Al) consists of only aluminium atoms bonded together and is called an </a:t>
            </a:r>
            <a:r>
              <a:rPr b="1" lang="en-NZ" sz="3200" spc="-1" strike="noStrike" u="sng">
                <a:solidFill>
                  <a:srgbClr val="66ff33"/>
                </a:solidFill>
                <a:uFillTx/>
                <a:latin typeface="Comic Sans MS"/>
              </a:rPr>
              <a:t>eleme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17AE-5894-44D7-A68B-1E2A7101F277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Comic Sans MS"/>
              </a:rPr>
              <a:t>Molecu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Some elements are unstable as single atoms and only exist as 2 atoms bonded together to form a </a:t>
            </a:r>
            <a:r>
              <a:rPr b="1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molecule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These are usually gas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.g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, N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Cl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75D7-45AF-4866-8BCA-FA581C3A1CFB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Comic Sans MS"/>
              </a:rPr>
              <a:t>Compounds and Molecu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772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Some compounds are molecules that contain 2 or more </a:t>
            </a: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different</a:t>
            </a: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 atoms </a:t>
            </a: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covalently bonded</a:t>
            </a: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 together. Some common molecular compounds are: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(carbon dioxide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(water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(methan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2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(glucos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3888-5C75-40B6-8941-741D851F5C1C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Naming compound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33520" y="1066680"/>
            <a:ext cx="8153280" cy="8254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ule –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79280" y="1916280"/>
            <a:ext cx="9361080" cy="3442320"/>
            <a:chOff x="179280" y="1916280"/>
            <a:chExt cx="9361080" cy="3442320"/>
          </a:xfrm>
        </p:grpSpPr>
        <p:sp>
          <p:nvSpPr>
            <p:cNvPr id="92" name="Text Box 5"/>
            <p:cNvSpPr/>
            <p:nvPr/>
          </p:nvSpPr>
          <p:spPr>
            <a:xfrm>
              <a:off x="179280" y="1916280"/>
              <a:ext cx="9361080" cy="34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ame the following elements 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5379840" y="3076920"/>
              <a:ext cx="416052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l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Br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533520" y="5029200"/>
            <a:ext cx="7619760" cy="1557000"/>
            <a:chOff x="533520" y="5029200"/>
            <a:chExt cx="7619760" cy="1557000"/>
          </a:xfrm>
        </p:grpSpPr>
        <p:sp>
          <p:nvSpPr>
            <p:cNvPr id="95" name="Text Box 8"/>
            <p:cNvSpPr/>
            <p:nvPr/>
          </p:nvSpPr>
          <p:spPr>
            <a:xfrm>
              <a:off x="533520" y="5029200"/>
              <a:ext cx="464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 (diatomic molecules).  For example, hydrogen looks like this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6" name="Group 9"/>
            <p:cNvGrpSpPr/>
            <p:nvPr/>
          </p:nvGrpSpPr>
          <p:grpSpPr>
            <a:xfrm>
              <a:off x="5791320" y="5257800"/>
              <a:ext cx="2361960" cy="762120"/>
              <a:chOff x="5791320" y="5257800"/>
              <a:chExt cx="2361960" cy="762120"/>
            </a:xfrm>
          </p:grpSpPr>
          <p:sp>
            <p:nvSpPr>
              <p:cNvPr id="97" name="Line 10"/>
              <p:cNvSpPr/>
              <p:nvPr/>
            </p:nvSpPr>
            <p:spPr>
              <a:xfrm>
                <a:off x="6172200" y="563868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8" name="Oval 11"/>
              <p:cNvSpPr/>
              <p:nvPr/>
            </p:nvSpPr>
            <p:spPr>
              <a:xfrm>
                <a:off x="57913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9" name="Oval 12"/>
              <p:cNvSpPr/>
              <p:nvPr/>
            </p:nvSpPr>
            <p:spPr>
              <a:xfrm>
                <a:off x="73915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0" name="Text Box 13"/>
          <p:cNvSpPr/>
          <p:nvPr/>
        </p:nvSpPr>
        <p:spPr>
          <a:xfrm>
            <a:off x="1403280" y="2997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403280" y="3573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1476360" y="4149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6516720" y="3645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6443640" y="3068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flour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6588000" y="414972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3:51:44Z</dcterms:created>
  <dc:creator>W Richards</dc:creator>
  <dc:description/>
  <dc:language>en-US</dc:language>
  <cp:lastModifiedBy>David</cp:lastModifiedBy>
  <dcterms:modified xsi:type="dcterms:W3CDTF">2011-02-01T07:57:05Z</dcterms:modified>
  <cp:revision>437</cp:revision>
  <dc:subject/>
  <dc:title>What you will need to remember from year 10…</dc:title>
</cp:coreProperties>
</file>